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4E5C-848B-4D2A-9185-A9DFD6ED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8E5-C5AB-477D-A5A2-218A3B56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4E1-F388-4BB2-B969-3321B394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9D63-9203-472C-9D0C-4444AC41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A223-022D-4D2D-BA58-AD4955D9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A257-B01F-418E-BC29-535AE993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315F-3983-4AF8-B30E-D33E069F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070B-CC39-458D-BA23-B1CD3787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5AFB-003D-4D1A-839A-F3722991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BB1E-E3F8-4225-881A-06183F19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E481-9575-40EC-926C-E3FA0E64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41C-E2D4-411B-B9C0-2F648500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2DB8-4035-4C6E-A594-84955AC9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9AF3-6F67-4E0D-9132-F349D1DF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5EB4-E60E-4F1C-8514-BB8E6038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5589-2FCB-4823-B50D-6437C55E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4526-2B50-4C06-9E1E-324FDF89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541-F508-4051-B05D-B8604832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E22-BA6E-48E3-9B85-B7CC7748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98B-C576-4B76-8005-466B3B6F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673-4D29-4B04-893B-A94E46DF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7128-C8D2-4C09-BBE6-EF4C00B9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DEA-63A1-40BA-BA67-AD2B2240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F907-7990-460D-BC30-786612CE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A38E-0582-44BF-8E8E-858A4C3828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D075-4AC5-42E4-9A38-BF33195E78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-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водителей тоже притуп-ляется внимание, и они едут быстрее обычного, не предполагая появления пе-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е дороги часто стано-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-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-ходы. От большого ко-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Опасные дорожные ситуации – дорожные “ловушки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5% дорожно-транспортных происшествий с детьми случаются примерно в 30 повторяющихся дорожных ситуациях – “ловушках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Дорожная ловушка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это ситуация на дороге со скрытой  опасностью, к тому же незамеченно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54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зоне остановки в ДТП попадает  треть пострадав-ших детей, в ос-новном из-за стоя-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038480" y="213372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ТАНОВКА ЭТО ВАЖНАЯ ЧАСТЬ Д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4211640" cy="3054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48040" y="2349360"/>
            <a:ext cx="439596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5530320"/>
            <a:ext cx="753444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остановке никогда нельзя стоять у кромки тротуара. Тебя нечаянно могут толкнуть, и ты окажешься под коле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371628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6920" y="335772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91764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850320"/>
            <a:ext cx="821232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ать автобус, троллейбус или трамвай нужно только на остановках – местах, обозначенных такими знаками, как на рисунках. А там, где их нет– на тротуаре. В сельской местности, если нет оборудованной остановки, автобус ждут на обочине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-ван к интересую-щему его предмету – автобус на другой стороне дороги, при-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 дорожным “ловуш-кам” могут привести и еще два изобрете-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2T13:29:4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